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CFE90-1AA2-4F59-A5BD-A2F2C27B506D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熟悉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药疗期间的护理须知（药疗监护内容）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了解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护士在合理用药中的作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2FE15-1549-4D22-A28B-B2EFBADE7C6F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3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2DE96-03B9-4014-AA2F-EFB9AE8117B9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3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108D8-48D8-496D-885E-7DD0F3593107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4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DBF6A-BCE5-4A0F-8853-8F7DD36F0CE4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55159-F990-450C-A4EC-2DE59842E26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0B350-3725-481C-9991-996F757DA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3BF76-71C4-41A6-A735-9521716BA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A49BD-7895-4078-B4A8-E5178804E41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72B8B-1026-4498-B891-68AA9C9B3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0D1BC-5D5A-4D64-9133-467B79816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1C74D-5BDE-42FA-8CFD-612B1881F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34323-C25D-4842-A48B-6DA046A67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49956-013D-4AD9-9FBC-734EF1084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70535-6643-4627-B8F7-C6F191E94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C06CC-A24E-4A60-BC59-19A609FCF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09C13-99BC-4274-A666-A04ED71CE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47D50-C55A-44C5-96BE-94A53AA499E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34920" y="2997000"/>
            <a:ext cx="568944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</a:rPr>
              <a:t>第四章    </a:t>
            </a:r>
            <a:endParaRPr b="1" lang="en-US" sz="4400" spc="-1" strike="noStrike">
              <a:solidFill>
                <a:srgbClr val="8ac8de"/>
              </a:solidFill>
              <a:latin typeface="华文新魏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</a:rPr>
              <a:t>影响药物作用的因素</a:t>
            </a:r>
            <a:endParaRPr b="1" lang="en-US" sz="44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03640" y="404640"/>
            <a:ext cx="57117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755640" y="1483920"/>
            <a:ext cx="79200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华文新魏"/>
              </a:rPr>
              <a:t>熟悉：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不同给药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途径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对药效产生的影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药物耐受性、精神依赖和成瘾性的概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华文新魏"/>
              </a:rPr>
              <a:t>了解：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药物不同剂型对药物吸收的影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机体方面对药效产生影响的因素有哪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护理老年患者用药的注意事项有哪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华文新魏"/>
              </a:rPr>
              <a:t>第一节 </a:t>
            </a:r>
            <a:r>
              <a:rPr b="1" lang="en-US" sz="32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TW" sz="3200" spc="-1" strike="noStrike">
                <a:solidFill>
                  <a:srgbClr val="ffffff"/>
                </a:solidFill>
                <a:latin typeface="华文新魏"/>
              </a:rPr>
              <a:t>药物方面</a:t>
            </a:r>
            <a:endParaRPr b="1" lang="en-US" sz="32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755640" y="1341360"/>
            <a:ext cx="794376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44a7ca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剂型：不同剂型影响药物吸收量和速率，从而影响药物作用快慢和强弱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44a7ca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给药途径：不同给药途径能影响药效和起效快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44a7ca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相互作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44a7ca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耐受性和依赖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44a7ca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机体方面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0526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生理状态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646200" indent="-2484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、性别、营养状态、精神状态、遗传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298440" indent="-29844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病理状态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298440" indent="-29844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饮食对药物作用的影响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298440" indent="-29844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时间药理学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646200" indent="-2484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物节律对药物作用和体内过程的影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298440" indent="-29844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心理因素与用药关系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298440" indent="-29844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老年人临床用药须知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646200" indent="-2484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老年人用药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646200" indent="-2484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老年人用药的注意事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圆角矩形 1"/>
          <p:cNvSpPr/>
          <p:nvPr/>
        </p:nvSpPr>
        <p:spPr>
          <a:xfrm>
            <a:off x="1835280" y="1341360"/>
            <a:ext cx="561636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口服给药时，下列那种剂型吸收最快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(    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片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溶液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丸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散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胶囊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圆角矩形 1"/>
          <p:cNvSpPr/>
          <p:nvPr/>
        </p:nvSpPr>
        <p:spPr>
          <a:xfrm>
            <a:off x="1332000" y="1341360"/>
            <a:ext cx="6985080" cy="5183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连续使用镇痛药一段时间后停药，患者出现烦躁不安，流泪出汗，腹痛呕吐，此现象称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(    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戒断症状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耐药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反跳现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后遗效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.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变态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圆角矩形 1"/>
          <p:cNvSpPr/>
          <p:nvPr/>
        </p:nvSpPr>
        <p:spPr>
          <a:xfrm>
            <a:off x="1835280" y="1341360"/>
            <a:ext cx="648180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肝功能不良患者在使用药物时，应适当采取下列措施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(    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增加给药次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增加药物剂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延长给药间隔时间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缩短给药间隔时间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减少给药种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1T09:56:54Z</dcterms:modified>
  <cp:revision>99</cp:revision>
  <dc:subject/>
  <dc:title>内科护理学</dc:title>
</cp:coreProperties>
</file>